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2A1-CAD4-44A1-BC93-E009C25C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2A2-F84D-4E01-932F-139850EF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6D22-E26D-4A8B-8F09-53CA0D23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7B6-D60C-4D51-8454-0102C64B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65C-858B-48FA-9EEF-B24A28F8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2EC-043A-4D4C-9FB7-C9DF1AFA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54B-BB5B-401D-9157-DDC5C86C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899-CC24-45B1-970C-61FDCAA1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4A4-F1A4-4093-ADB5-44EE76B2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8F3-AAA3-42CE-A3D1-9EFDB446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8CE-6084-44D5-9077-CCC23B6F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66B-A05A-4CCA-B0DE-914751B0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FDC9-A4FC-49D7-8048-43514D48E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3505320"/>
            <a:ext cx="7162920" cy="243828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2590920"/>
            <a:ext cx="7162920" cy="83808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838080"/>
            <a:ext cx="7162920" cy="167652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7668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@ Arthropod Genomic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806600" y="14983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8174520" y="2812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78000" y="990720"/>
            <a:ext cx="4527720" cy="487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27360" y="838080"/>
            <a:ext cx="5654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rsday 7-9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ntributions to Genom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Elsik, Christopher Childers, Darren H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16240" y="1668600"/>
            <a:ext cx="6067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7:30-9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o Databases and Integration with GMO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in, Dave C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0" y="2590920"/>
            <a:ext cx="579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11:25-11:45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ated arthropod genes and ways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8021520" y="4423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63000" y="3505320"/>
            <a:ext cx="4730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5-6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ative annotation of Drosophilid dicistronic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4041720"/>
            <a:ext cx="6340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10-11:30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lete System For Community Genome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: Database Resources for Emerging Model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ive genomics and database construction for Lepidop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cated Arthropod genes, and ways to find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Base: A genome resource for arthropod vectors of human patho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ectorBase Manual and Community Annotation Submission 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erflyBase: A framework for comparative genomics in butterflies and mo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6019920"/>
            <a:ext cx="3429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Got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2240" y="5791320"/>
            <a:ext cx="1255680" cy="92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960" y="762120"/>
            <a:ext cx="1340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le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tl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i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conius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Annot-L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08-04-09T18:43:59Z</cp:lastPrinted>
  <dcterms:modified xsi:type="dcterms:W3CDTF">2008-04-09T18:44:14Z</dcterms:modified>
  <cp:revision>12</cp:revision>
  <dc:subject/>
  <dc:title>PowerPoint Presentation</dc:title>
</cp:coreProperties>
</file>